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664-B282-4BD1-AAF2-A5B8E4FF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290-7AEE-4A03-AE9C-E459D5F1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3FE5-D75E-4D35-BF3A-AFE85594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597C-521B-400B-AC0A-C2668CB3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BEA-0C43-4234-AD56-1F2B9C30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221-4BF1-4891-AF6C-7E91EB1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108-F6CA-424B-A1E7-7E725629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E31-715D-4BE4-ACDE-F43706C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889-5308-4C47-B78B-962CB27B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B15-89E2-4E38-B214-EE381F1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472-A1E3-4819-8601-C0D3A81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634-B9E1-4B4D-82DD-C014875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E26-0394-481D-BE45-96A624B1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ictures that follow show me teaching the AVID Book Club class.  In this class I am trying to instill the love and necessity of re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the shortage of books I used the camera to project the text on screen for the entire class.  The students took turns reading aloud.  We then used the camera to discuss a worksheet projected on the screen regarding conflict and resolutions within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s seemed to be oblivious to my use of new technology so I asked one of the students to assist 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eacher Use #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we are so short on books.  I had the bright idea to use the document camera to show the book on the screen for the class to r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71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eacher Use #2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629400" cy="32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4495680"/>
            <a:ext cx="6705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process of trying to put the book and the camera in the right position so that we had a clear picture on the screen.  I was struggling  a little with technology while still trying to teac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tudent Use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3124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4876920"/>
            <a:ext cx="76964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sked the student to help for this project.  The students did not need a hand on approach but they were interested in seeing how the new technology wor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till Picture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books we have been using for the book clu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3006720"/>
            <a:ext cx="60199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flection</a:t>
            </a:r>
            <a:br>
              <a:rPr sz="4000"/>
            </a:b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feel challenged but yet charged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as paranoid about leaving the camera sitting out because we have so much traffic within our media center.  I wish I had a way to lock it down like a lapt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cess of setting it up was the most difficult 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zoom in an out was quite helpful with my classroom rea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look back on the experience of using the camera I note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Reflections (cont)</a:t>
            </a: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anything else the more you use it the more capable you will be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I become more at ease I believe I can be more creative with its uses beyond the bas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9:10:45Z</dcterms:created>
  <dc:creator>sherone.barnes</dc:creator>
  <dc:description/>
  <dc:language>en-US</dc:language>
  <cp:lastModifiedBy>sherone.barnes</cp:lastModifiedBy>
  <dcterms:modified xsi:type="dcterms:W3CDTF">2009-11-04T21:23:13Z</dcterms:modified>
  <cp:revision>7</cp:revision>
  <dc:subject/>
  <dc:title>Teacher Use #1</dc:title>
</cp:coreProperties>
</file>